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0B53-FFBA-429E-AFBF-D63C81ED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6463-3B96-4382-B17F-EF094273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D7E-5D53-41B8-8F44-6789009C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046-9CA8-4894-B092-57912B9F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ACB-0457-4FD6-985C-EF2FA031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2487-CB73-42F8-9F16-A1D14070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A10-7CA1-4B77-AF23-6F92CDCD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653-C412-4BDF-8CB2-99150F3D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98E6-AD12-4129-AD07-36004171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CFE-2DE9-47B4-A285-A152EE07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B9A-7A7D-4CCE-859B-29504F1D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1279-E98C-409C-AC87-D3F99BF2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35A6-FB36-4FD5-877E-52AEF0DE1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an and Sarah Trivi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nimal was present for Sarah and Brian’s first ki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ir of capyba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baby raco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p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nimal was present for Sarah and Brian’s first ki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first cousins does Sarah alone ha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0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first cousins does Sarah alone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first cousins does Sarah alone ha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0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first cousins does Sarah alone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first cousins do Sarah and Brian have combi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ds of ‘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first cousins do Sarah and Brian have combi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ed at Sarah and Brian’s wedding sh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rved a pumpkin with their initials in it…B +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old the movie rights to their romantic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needed additional towels for everyone who was in the sh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given a pu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ed at Sarah and Brian’s wedding sh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they first me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2004 Intervarsity talent s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Pine Box Orchestra groupies who thought Burr was one cool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iterally running into each other.  Ou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waiting in line for New Kids on the Block tic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they first me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2004 Intervarsity talent s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it love at first s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 and n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we, Gro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it love at first s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Yes and n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Sarah’s first birthday as Brian’s girlfriend, what did they use instead of a traditional c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raditional c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tef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i cheese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526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ead of a traditional ca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52960" y="457200"/>
            <a:ext cx="4422600" cy="5897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3429000"/>
            <a:ext cx="342900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Chili cheese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was their first ki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lab 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ront of Brian’s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parlor with the candlest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rian’s car with the heated s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was their first ki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In front of Brian’s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06:14:05Z</dcterms:created>
  <dc:creator>Frank</dc:creator>
  <dc:description/>
  <dc:language>en-US</dc:language>
  <cp:lastModifiedBy>Frank</cp:lastModifiedBy>
  <dcterms:modified xsi:type="dcterms:W3CDTF">2007-11-22T07:17:07Z</dcterms:modified>
  <cp:revision>9</cp:revision>
  <dc:subject/>
  <dc:title>Brian and Sarah Trivia!</dc:title>
</cp:coreProperties>
</file>